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FEB-5EB3-4495-81A3-77568DBD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376-279A-4C41-8421-93A7FBD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252-F1E2-4AB3-9674-96BF6C4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2E6-E70D-4A62-B942-1F97AED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D4F-506F-4D77-9E47-BA82294D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196-6AA1-42C8-A95B-2CE4C8AC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41B-F01B-480C-A912-DE70FAE8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51C5-D0B8-4385-B045-9F5E1532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96F-BD20-4249-A816-D0C0EF9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7455-655F-430F-BD77-B86DF24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3CB6-306F-49AB-A11B-24689CB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B80-FB4C-45ED-AFC1-8FFB968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6006-4230-44CB-A5E8-CB99CAA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9FFD-070F-4200-BDEB-49B5684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B9E0-B52C-4400-9414-E81DBC99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4F8-451D-4FEE-A7E2-E84DA246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8F44-2FF9-4BA4-A41F-0F70816B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592-8CD2-4784-AF10-B5438CEF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A4E-A0B3-49AA-B33D-5FB66E6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C30-08F9-4377-B617-A6337DB1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F71-0CA8-4776-BFFD-D1D5BB4A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65B-ECA4-455C-AB82-72CCED9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A75-7E59-4AC3-9734-495B27B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483-5246-4265-8C2A-6F2EB8E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9B27-F2AB-44AA-9227-1B631B81F5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889F-5D63-447E-BBBF-D0BBC309A3C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Constitu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vention, Bill of Rights, &amp; Rat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/3 of both houses of Congr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/4 of all states- states decide how to ratify (vote of people, vote of legislature,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amendment is ratified, becomes official part of Constitution and must be followed by all laws, court decisi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Unit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itary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s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itish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s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 colon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iginal U.S. government after in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power to states, weak central gov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pres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ress couldn’t ta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Confed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federation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 st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control ov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stitutional Co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 secretly in Philadelphia- feared another rebell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ly merchants, lawyers, &amp; plant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of Government: Fede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eral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ares power w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onent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 it wor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ares power w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 Key Constitutional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Federalism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hared power between central (federal) government and smaller components (states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opular Sovereignty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Government by consent of the governe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eparation of power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3 branches with different responsibiliti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Checks and balanc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No branch gets too much power (others check each other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imited governmen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Civil liberties, free market,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Judicial review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Independent judiciary (not elected) determines constitutionality of law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for Rat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9/13 (2/3) states needed to ratify to go into eff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Federalis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upported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nti-Federalis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not want to ratif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much nat’l power over st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much power to Congress &amp;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o mention of citizens’ right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ll of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titution gave no protection of people’s righ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 speech/thought, right to bear arms, fair trial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de Constitution a “living document”- could change gov w/o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rted with 10 amendments, 27 tod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2:23Z</dcterms:created>
  <dc:creator>L-Net</dc:creator>
  <dc:description/>
  <dc:language>en-US</dc:language>
  <cp:lastModifiedBy>Danielson, Jason</cp:lastModifiedBy>
  <dcterms:modified xsi:type="dcterms:W3CDTF">2011-09-08T19:27:24Z</dcterms:modified>
  <cp:revision>11</cp:revision>
  <dc:subject/>
  <dc:title>The Constitution</dc:title>
</cp:coreProperties>
</file>